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02907"/>
        <c:axId val="4769311"/>
      </c:barChart>
      <c:catAx>
        <c:axId val="24502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9311"/>
        <c:crosses val="autoZero"/>
        <c:auto val="1"/>
        <c:lblAlgn val="ctr"/>
        <c:lblOffset val="100"/>
        <c:noMultiLvlLbl val="0"/>
      </c:catAx>
      <c:valAx>
        <c:axId val="4769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02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B0F-3145-46C0-8FC1-0A3F0B40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951-2D02-4E7A-AEBA-AFF815BE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381F-47FF-4DFF-8FA4-AB9926D8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22B-5086-47AA-B229-53D4BE7A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046-1409-4B09-89F7-AF3A2273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A9D-80B1-4AF9-B58E-C75CCF1F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2CC-A4EF-4977-8BEE-DB77A0D4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6F7-3443-4AF1-994B-E2124369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63E-CC7C-4BD0-92B3-73B571E5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CCC-40D2-4B26-88F1-71DC2B0B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E62-4609-4186-A742-6DB8BEB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9FD-524B-4AF8-9FF3-76ABB0EA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7385A-6E0A-49B5-B363-869C30E387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