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27499"/>
        <c:axId val="75993640"/>
      </c:barChart>
      <c:catAx>
        <c:axId val="27427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93640"/>
        <c:crosses val="autoZero"/>
        <c:auto val="1"/>
        <c:lblAlgn val="ctr"/>
        <c:lblOffset val="100"/>
        <c:noMultiLvlLbl val="0"/>
      </c:catAx>
      <c:valAx>
        <c:axId val="75993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27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A10-9B1E-4327-8D65-03CD95AF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ED1-F551-4633-A021-BDB0D98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E80-9CA6-4603-AA0F-3815EF8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62B-AD40-41EB-86F9-C6DBB208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728-B28E-4B96-8BDB-C5C18B7D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F1A-B031-4DE2-A543-0CCA4BF4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F56-E7C1-4E91-9540-390E8179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789-3370-4D08-8E6E-40CB3B89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731-BE92-49D5-9ADB-9B7D59C8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8F9-9ED6-42EB-A6FD-38125D04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27B-4B26-448B-925A-BF3EDE24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21B-EE6F-49BA-888B-43FF4947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4F2CD-0492-4927-9165-D35EDA91CA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